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248F-BF66-4992-A326-EA93EF626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DC24-3329-4E21-B332-CC9125F1B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0AB-F270-48B4-B677-A3B6FCB5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5AF7-3206-413E-89C6-CE64649D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D5A-9AD1-427D-89E7-855D80A8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308-6D60-47C0-AE45-60551E57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FF7-3104-4955-86D1-66882414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6EB-B999-4198-8D8B-8D0FBFEA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14F-099E-4BF2-832A-D6EE512E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307-95F2-4308-A71A-FA2B1627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FB5-EF33-42F4-8CF0-B881E908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35F-3EB9-43C4-8AB5-4C137E8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D2B-DCA6-420C-92BB-3BBA8FA6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2AD-D8AD-480E-8217-D7D88299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3E85-B1D0-45F3-AE53-F4F6837ED1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A0EA-F874-4810-8217-BDBFDADD6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sp>
          <p:nvSpPr>
            <p:cNvPr id="6" name="Rectangle 10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505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11"/>
            <p:cNvGrpSpPr/>
            <p:nvPr/>
          </p:nvGrpSpPr>
          <p:grpSpPr>
            <a:xfrm>
              <a:off x="106200" y="333360"/>
              <a:ext cx="505080" cy="2806560"/>
              <a:chOff x="106200" y="333360"/>
              <a:chExt cx="505080" cy="2806560"/>
            </a:xfrm>
          </p:grpSpPr>
          <p:sp>
            <p:nvSpPr>
              <p:cNvPr id="8" name="Rectangle 12"/>
              <p:cNvSpPr/>
              <p:nvPr/>
            </p:nvSpPr>
            <p:spPr>
              <a:xfrm>
                <a:off x="106200" y="333360"/>
                <a:ext cx="505080" cy="503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3"/>
              <p:cNvSpPr/>
              <p:nvPr/>
            </p:nvSpPr>
            <p:spPr>
              <a:xfrm>
                <a:off x="106200" y="907920"/>
                <a:ext cx="505080" cy="503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4"/>
              <p:cNvSpPr/>
              <p:nvPr/>
            </p:nvSpPr>
            <p:spPr>
              <a:xfrm>
                <a:off x="106200" y="1484280"/>
                <a:ext cx="505080" cy="503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5"/>
              <p:cNvSpPr/>
              <p:nvPr/>
            </p:nvSpPr>
            <p:spPr>
              <a:xfrm>
                <a:off x="106200" y="2060640"/>
                <a:ext cx="505080" cy="503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6"/>
              <p:cNvSpPr/>
              <p:nvPr/>
            </p:nvSpPr>
            <p:spPr>
              <a:xfrm>
                <a:off x="106200" y="2637000"/>
                <a:ext cx="505080" cy="50292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6"/>
          <p:cNvSpPr/>
          <p:nvPr/>
        </p:nvSpPr>
        <p:spPr>
          <a:xfrm>
            <a:off x="-28440" y="909720"/>
            <a:ext cx="7886520" cy="5927760"/>
          </a:xfrm>
          <a:prstGeom prst="rec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100000">
                <a:srgbClr val="66ff66"/>
              </a:gs>
            </a:gsLst>
            <a:lin ang="0"/>
          </a:gra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5"/>
          <p:cNvSpPr/>
          <p:nvPr/>
        </p:nvSpPr>
        <p:spPr>
          <a:xfrm>
            <a:off x="219240" y="1019160"/>
            <a:ext cx="2838240" cy="370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tical Frame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4"/>
          <p:cNvSpPr/>
          <p:nvPr/>
        </p:nvSpPr>
        <p:spPr>
          <a:xfrm>
            <a:off x="3400560" y="1020600"/>
            <a:ext cx="2171520" cy="368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3"/>
          <p:cNvSpPr/>
          <p:nvPr/>
        </p:nvSpPr>
        <p:spPr>
          <a:xfrm>
            <a:off x="12600" y="170964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gricul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2"/>
          <p:cNvSpPr/>
          <p:nvPr/>
        </p:nvSpPr>
        <p:spPr>
          <a:xfrm>
            <a:off x="12600" y="207504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utr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1"/>
          <p:cNvSpPr/>
          <p:nvPr/>
        </p:nvSpPr>
        <p:spPr>
          <a:xfrm>
            <a:off x="12600" y="24415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Livesto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0"/>
          <p:cNvSpPr/>
          <p:nvPr/>
        </p:nvSpPr>
        <p:spPr>
          <a:xfrm>
            <a:off x="12600" y="282744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ishe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4400" y="5889600"/>
            <a:ext cx="1143000" cy="300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nfrastru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8"/>
          <p:cNvSpPr/>
          <p:nvPr/>
        </p:nvSpPr>
        <p:spPr>
          <a:xfrm>
            <a:off x="6480" y="3198960"/>
            <a:ext cx="113184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s &amp; Tra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7"/>
          <p:cNvSpPr/>
          <p:nvPr/>
        </p:nvSpPr>
        <p:spPr>
          <a:xfrm>
            <a:off x="34920" y="464040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6"/>
          <p:cNvSpPr/>
          <p:nvPr/>
        </p:nvSpPr>
        <p:spPr>
          <a:xfrm>
            <a:off x="12600" y="35701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5"/>
          <p:cNvSpPr/>
          <p:nvPr/>
        </p:nvSpPr>
        <p:spPr>
          <a:xfrm>
            <a:off x="34920" y="4957920"/>
            <a:ext cx="1130400" cy="22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atr’l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4"/>
          <p:cNvSpPr/>
          <p:nvPr/>
        </p:nvSpPr>
        <p:spPr>
          <a:xfrm>
            <a:off x="6039000" y="3560760"/>
            <a:ext cx="114300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gional and District Authorities-Led Food Security and Nutrition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3524400" y="1503360"/>
            <a:ext cx="1942920" cy="876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ituation Analys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al-time updates of current and projected food security and nutrition condi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ey Indicator Monito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arly W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easonal/Emergency Assess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2"/>
          <p:cNvSpPr/>
          <p:nvPr/>
        </p:nvSpPr>
        <p:spPr>
          <a:xfrm>
            <a:off x="3505320" y="4579920"/>
            <a:ext cx="1942920" cy="600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d Research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—Demand -driven, action-oriented resea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.g., Climate Change; HIV/AIDS, Biofuels; Urban growth;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1"/>
          <p:cNvSpPr/>
          <p:nvPr/>
        </p:nvSpPr>
        <p:spPr>
          <a:xfrm>
            <a:off x="3524400" y="2462040"/>
            <a:ext cx="1942920" cy="870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ention Analysis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—Strategic advice on most effective, efficient, and sustainable interven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mergency Respon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licy Imple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and DRR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0"/>
          <p:cNvSpPr/>
          <p:nvPr/>
        </p:nvSpPr>
        <p:spPr>
          <a:xfrm>
            <a:off x="3514680" y="5332320"/>
            <a:ext cx="1943280" cy="63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Management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—Information systems that enable timely/accurate data flow, automated analysis, and easy access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3514680" y="3436920"/>
            <a:ext cx="1943280" cy="981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ecentralization Support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—Technical and institutional capacity building to Regions and L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TUUCLs--protocols for  analysis, data flow, and  repo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8"/>
          <p:cNvSpPr/>
          <p:nvPr/>
        </p:nvSpPr>
        <p:spPr>
          <a:xfrm>
            <a:off x="1114560" y="1579680"/>
            <a:ext cx="276120" cy="4686120"/>
          </a:xfrm>
          <a:custGeom>
            <a:avLst/>
            <a:gdLst>
              <a:gd name="textAreaLeft" fmla="*/ 0 w 276120"/>
              <a:gd name="textAreaRight" fmla="*/ 99720 w 276120"/>
              <a:gd name="textAreaTop" fmla="*/ 122040 h 4686120"/>
              <a:gd name="textAreaBottom" fmla="*/ 4564080 h 468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7"/>
          <p:cNvSpPr/>
          <p:nvPr/>
        </p:nvSpPr>
        <p:spPr>
          <a:xfrm>
            <a:off x="6039000" y="4599000"/>
            <a:ext cx="109512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d Research Repo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6000840" y="5256360"/>
            <a:ext cx="1181160" cy="799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Web S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ashboard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MS Data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igital Libr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G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4"/>
          <p:cNvSpPr/>
          <p:nvPr/>
        </p:nvSpPr>
        <p:spPr>
          <a:xfrm flipV="1">
            <a:off x="3114720" y="1922040"/>
            <a:ext cx="399960" cy="17146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3"/>
          <p:cNvSpPr/>
          <p:nvPr/>
        </p:nvSpPr>
        <p:spPr>
          <a:xfrm flipV="1">
            <a:off x="3105000" y="2722680"/>
            <a:ext cx="409680" cy="9144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2"/>
          <p:cNvSpPr/>
          <p:nvPr/>
        </p:nvSpPr>
        <p:spPr>
          <a:xfrm>
            <a:off x="3105000" y="3798720"/>
            <a:ext cx="419400" cy="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1"/>
          <p:cNvSpPr/>
          <p:nvPr/>
        </p:nvSpPr>
        <p:spPr>
          <a:xfrm>
            <a:off x="3105000" y="3979800"/>
            <a:ext cx="409680" cy="9144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0"/>
          <p:cNvSpPr/>
          <p:nvPr/>
        </p:nvSpPr>
        <p:spPr>
          <a:xfrm>
            <a:off x="3114720" y="3979800"/>
            <a:ext cx="399960" cy="17146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9"/>
          <p:cNvSpPr/>
          <p:nvPr/>
        </p:nvSpPr>
        <p:spPr>
          <a:xfrm>
            <a:off x="5486400" y="1922400"/>
            <a:ext cx="5716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477040" y="2827440"/>
            <a:ext cx="57132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7"/>
          <p:cNvSpPr/>
          <p:nvPr/>
        </p:nvSpPr>
        <p:spPr>
          <a:xfrm>
            <a:off x="5477040" y="3875040"/>
            <a:ext cx="57132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6"/>
          <p:cNvSpPr/>
          <p:nvPr/>
        </p:nvSpPr>
        <p:spPr>
          <a:xfrm>
            <a:off x="5457960" y="4865760"/>
            <a:ext cx="57132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5448240" y="5637240"/>
            <a:ext cx="5716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-9360" y="5240160"/>
            <a:ext cx="1238040" cy="571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ncome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Non)Formal Busin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Non)Formal Lab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mitta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6029280" y="2579760"/>
            <a:ext cx="1143000" cy="571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c Intervention Advisory Template (SIA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2952720" y="66088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1"/>
          <p:cNvSpPr/>
          <p:nvPr/>
        </p:nvSpPr>
        <p:spPr>
          <a:xfrm>
            <a:off x="5210280" y="6608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0"/>
          <p:cNvSpPr/>
          <p:nvPr/>
        </p:nvSpPr>
        <p:spPr>
          <a:xfrm>
            <a:off x="1495440" y="5999040"/>
            <a:ext cx="5905440" cy="790560"/>
          </a:xfrm>
          <a:prstGeom prst="upArrowCallout">
            <a:avLst>
              <a:gd name="adj1" fmla="val 186766"/>
              <a:gd name="adj2" fmla="val 186749"/>
              <a:gd name="adj3" fmla="val 1666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533600" y="6313320"/>
            <a:ext cx="579096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tion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tion of activities, financial accountability, safety, security, …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nel Management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taff have clear tasks, are coordinated, supported, accountable, &amp; fairly apprais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nstitutional Relationships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artner agencies are well informed, fulfilling commitments, and providing feed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714840" y="6075360"/>
            <a:ext cx="1371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al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6029280" y="1693800"/>
            <a:ext cx="1143000" cy="571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 Food Security Phase Class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IP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7753320" y="3144960"/>
            <a:ext cx="219240" cy="197784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00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5896080" y="1027080"/>
            <a:ext cx="1352520" cy="362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ut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7172280" y="1808280"/>
            <a:ext cx="685800" cy="182880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7172280" y="2722680"/>
            <a:ext cx="685800" cy="114300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7172280" y="3970440"/>
            <a:ext cx="685800" cy="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7172280" y="4093920"/>
            <a:ext cx="685800" cy="68580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7172280" y="4322880"/>
            <a:ext cx="685800" cy="137160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8429760" y="2722680"/>
            <a:ext cx="237960" cy="371520"/>
          </a:xfrm>
          <a:prstGeom prst="upArrow">
            <a:avLst>
              <a:gd name="adj1" fmla="val 50000"/>
              <a:gd name="adj2" fmla="val 39032"/>
            </a:avLst>
          </a:prstGeom>
          <a:gradFill rotWithShape="0">
            <a:gsLst>
              <a:gs pos="0">
                <a:srgbClr val="454545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2320" y="395460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400040" y="2556000"/>
            <a:ext cx="1800360" cy="2744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ulti-Secto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ulti-Temporal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mmediate, medium, and long-te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ulti-Scale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Village to 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Pillars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, Availability, Utilization, Sta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Livelihoods Analysi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aseline Livelihood Pro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Livelihood Strate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Livelihood Ass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Risk = Hazard x Vulner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rou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flo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nfli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4920" y="43099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7"/>
          <p:cNvSpPr/>
          <p:nvPr/>
        </p:nvSpPr>
        <p:spPr>
          <a:xfrm>
            <a:off x="-28440" y="779400"/>
            <a:ext cx="914400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7858080" y="3122640"/>
            <a:ext cx="1257480" cy="2000160"/>
          </a:xfrm>
          <a:prstGeom prst="rect">
            <a:avLst/>
          </a:prstGeom>
          <a:solidFill>
            <a:srgbClr val="0099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ctionable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Format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Repo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Ma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‘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Dashboard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Power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Photos &amp; Vide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Media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Em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Webs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Brief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Strategy Semin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8429760" y="1779480"/>
            <a:ext cx="237960" cy="304920"/>
          </a:xfrm>
          <a:prstGeom prst="upArrow">
            <a:avLst>
              <a:gd name="adj1" fmla="val 50000"/>
              <a:gd name="adj2" fmla="val 32035"/>
            </a:avLst>
          </a:prstGeom>
          <a:gradFill rotWithShape="0">
            <a:gsLst>
              <a:gs pos="0">
                <a:srgbClr val="454545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1"/>
          <p:cNvSpPr/>
          <p:nvPr/>
        </p:nvSpPr>
        <p:spPr>
          <a:xfrm>
            <a:off x="6642000" y="115920"/>
            <a:ext cx="2344680" cy="693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AL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nd Nutrition Security for all Tanzanians through adequate and stable access, availability, and utilization of nutritious fo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912080" y="2065320"/>
            <a:ext cx="1219320" cy="676440"/>
          </a:xfrm>
          <a:prstGeom prst="rect">
            <a:avLst/>
          </a:prstGeom>
          <a:solidFill>
            <a:srgbClr val="ff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 Mak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ov’t of Tanzan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ment Partn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GOs/ Civil Socie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rs/Trad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0"/>
          <p:cNvSpPr/>
          <p:nvPr/>
        </p:nvSpPr>
        <p:spPr>
          <a:xfrm>
            <a:off x="8458200" y="800280"/>
            <a:ext cx="237960" cy="323640"/>
          </a:xfrm>
          <a:prstGeom prst="upArrow">
            <a:avLst>
              <a:gd name="adj1" fmla="val 50000"/>
              <a:gd name="adj2" fmla="val 34002"/>
            </a:avLst>
          </a:prstGeom>
          <a:gradFill rotWithShape="0">
            <a:gsLst>
              <a:gs pos="0">
                <a:srgbClr val="454545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9"/>
          <p:cNvSpPr/>
          <p:nvPr/>
        </p:nvSpPr>
        <p:spPr>
          <a:xfrm>
            <a:off x="7929720" y="1100160"/>
            <a:ext cx="1218960" cy="676080"/>
          </a:xfrm>
          <a:prstGeom prst="rect">
            <a:avLst/>
          </a:prstGeom>
          <a:solidFill>
            <a:srgbClr val="eaeaea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licy Imple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ment 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mergency Respon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saster Risk Redu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3"/>
          <p:cNvSpPr/>
          <p:nvPr/>
        </p:nvSpPr>
        <p:spPr>
          <a:xfrm>
            <a:off x="-28440" y="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-27000" y="13752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8"/>
          <p:cNvSpPr/>
          <p:nvPr/>
        </p:nvSpPr>
        <p:spPr>
          <a:xfrm>
            <a:off x="-28440" y="7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9"/>
          <p:cNvSpPr/>
          <p:nvPr/>
        </p:nvSpPr>
        <p:spPr>
          <a:xfrm>
            <a:off x="-28440" y="685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1"/>
          <p:cNvSpPr/>
          <p:nvPr/>
        </p:nvSpPr>
        <p:spPr>
          <a:xfrm>
            <a:off x="838080" y="22860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CHALI Operational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8"/>
          <p:cNvSpPr/>
          <p:nvPr/>
        </p:nvSpPr>
        <p:spPr>
          <a:xfrm>
            <a:off x="9360" y="1433520"/>
            <a:ext cx="5767560" cy="5562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3"/>
          <p:cNvSpPr/>
          <p:nvPr/>
        </p:nvSpPr>
        <p:spPr>
          <a:xfrm>
            <a:off x="5867280" y="1523880"/>
            <a:ext cx="1447920" cy="2971800"/>
          </a:xfrm>
          <a:prstGeom prst="rect">
            <a:avLst/>
          </a:prstGeom>
          <a:solidFill>
            <a:srgbClr val="ffc000">
              <a:alpha val="56000"/>
            </a:srgbClr>
          </a:solidFill>
          <a:ln w="73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2"/>
          <p:cNvSpPr/>
          <p:nvPr/>
        </p:nvSpPr>
        <p:spPr>
          <a:xfrm>
            <a:off x="0" y="838080"/>
            <a:ext cx="7848720" cy="60199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3"/>
          <p:cNvSpPr/>
          <p:nvPr/>
        </p:nvSpPr>
        <p:spPr>
          <a:xfrm>
            <a:off x="-19080" y="1467000"/>
            <a:ext cx="7848720" cy="548640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14"/>
          <p:cNvGrpSpPr/>
          <p:nvPr/>
        </p:nvGrpSpPr>
        <p:grpSpPr>
          <a:xfrm>
            <a:off x="14400" y="1447920"/>
            <a:ext cx="7758000" cy="4800600"/>
            <a:chOff x="14400" y="1447920"/>
            <a:chExt cx="7758000" cy="4800600"/>
          </a:xfrm>
        </p:grpSpPr>
        <p:sp>
          <p:nvSpPr>
            <p:cNvPr id="123" name="Rectangle 111"/>
            <p:cNvSpPr/>
            <p:nvPr/>
          </p:nvSpPr>
          <p:spPr>
            <a:xfrm>
              <a:off x="14400" y="1467000"/>
              <a:ext cx="3276360" cy="47815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12"/>
            <p:cNvSpPr/>
            <p:nvPr/>
          </p:nvSpPr>
          <p:spPr>
            <a:xfrm>
              <a:off x="5867280" y="1447920"/>
              <a:ext cx="1905120" cy="464796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07"/>
          <p:cNvGrpSpPr/>
          <p:nvPr/>
        </p:nvGrpSpPr>
        <p:grpSpPr>
          <a:xfrm>
            <a:off x="1447920" y="1371600"/>
            <a:ext cx="6405480" cy="5486400"/>
            <a:chOff x="1447920" y="1371600"/>
            <a:chExt cx="6405480" cy="5486400"/>
          </a:xfrm>
        </p:grpSpPr>
        <p:sp>
          <p:nvSpPr>
            <p:cNvPr id="126" name="Rectangle 105"/>
            <p:cNvSpPr/>
            <p:nvPr/>
          </p:nvSpPr>
          <p:spPr>
            <a:xfrm>
              <a:off x="3352680" y="1371600"/>
              <a:ext cx="4500720" cy="548640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06"/>
            <p:cNvSpPr/>
            <p:nvPr/>
          </p:nvSpPr>
          <p:spPr>
            <a:xfrm>
              <a:off x="1447920" y="5790960"/>
              <a:ext cx="3809880" cy="9907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7:09:54Z</dcterms:created>
  <dc:creator>nick</dc:creator>
  <dc:description/>
  <dc:language>en-US</dc:language>
  <cp:lastModifiedBy>CCAFS</cp:lastModifiedBy>
  <dcterms:modified xsi:type="dcterms:W3CDTF">2010-11-05T10:49:25Z</dcterms:modified>
  <cp:revision>100</cp:revision>
  <dc:subject/>
  <dc:title>Slide 1</dc:title>
</cp:coreProperties>
</file>